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A50-D755-4421-9F66-1828728B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88F-6BD6-4A82-AB3C-048D9056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9E9-2193-4F0C-A675-04F4A03F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064-F37E-42F4-AD00-D85EE9DF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EB3-DBAA-4F56-91D2-56E603B0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1DF-C1B8-455E-A2D9-DA2CAEBF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2DD-A528-4D8E-97A1-BC5CDAA0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CBD-BFC9-4592-9D69-ADF7007F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73C-6833-4430-9E99-E766182D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C64-FFF4-4C0E-A8DB-2C7A870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ABE-D371-4FEF-805E-086472A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712-0BE9-474B-9597-563E65EF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359A-0BDC-4F91-B755-B12C31B8F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4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4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4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4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4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53:08Z</dcterms:created>
  <dc:creator>USER</dc:creator>
  <dc:description/>
  <dc:language>en-US</dc:language>
  <cp:lastModifiedBy>USER</cp:lastModifiedBy>
  <dcterms:modified xsi:type="dcterms:W3CDTF">2002-11-01T03:53:44Z</dcterms:modified>
  <cp:revision>1</cp:revision>
  <dc:subject/>
  <dc:title>PowerPoint Presentation</dc:title>
</cp:coreProperties>
</file>